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107-E852-40F2-A6F0-D50776C9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F24-0242-4DC9-91E7-9F53DF8D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8B0-667A-46E1-88E9-B3872D0C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EE3-A0A0-4E4D-9A2F-63A611F3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3F7D-89A4-4FAA-A66A-1674C38B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B857-3A5D-4191-858D-8B0D820C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4CE2-C523-48D4-9B5F-19C0D822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AA12-4D20-437A-A39C-C75755DA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E139-4069-45EB-9981-5024F9F5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0C45-B55A-42E5-A2C9-62CBD2B6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BCAD-27F6-4839-BDD7-6264F023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F11-F512-454F-868A-49478B6A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18D-9FE7-48C6-A252-EE1F2B3E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7D66-376F-40B6-93C0-B59FCB5B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7CAD-217D-4057-BD61-5A4FAD36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79F0-0B31-4FCD-A36C-E685A556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F15B-CA85-4CD3-A220-5D12B508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77A13-ABA7-4280-9D64-DB662F59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7ED06-5DB2-4429-9599-575DF27B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044CE-3E43-4E46-8DE2-5B884C1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3F7CF-C15D-49C0-9B42-E375AECC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3060E-2D1E-4CA4-9A9E-C22695B3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CE8-1C4A-4F73-87E4-A937974F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FA586-9882-4C52-ADC1-162218E3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07905-6144-4B71-8F9D-B1224AB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B2747-2B3B-4015-BA57-D464851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A31FF-A45A-447F-927E-A7C10FFF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A0203-B08A-4569-9DF2-4357AC95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D2CD3-5E60-4908-A45B-89C734BA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D2026-F364-4D9C-BE7D-C7DF75E3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0EA22-2CC2-44EE-B170-5D6BD44C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83A4D-B436-44EB-9925-EC0D0CCE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3D06D-FDC2-40E7-82C1-63CE3F51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A36-D926-458E-B72D-98D20702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8522E-3EA8-4DF2-BC67-FFC625E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5AB9C-EFBF-4A6F-B25A-70F9E193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DAF52-9243-4E96-ADD8-B4AECFDB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3F241-3A87-40EC-AD6B-5DAAE83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2A40B-FB4E-4E7F-8F9E-419E3FE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BB161-B148-4860-8E56-A545191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C266E-46EF-4BEE-ADC6-CCE0893D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4584A-9C99-40D2-AD9E-7B158942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641CA-56A2-4D7A-8FD0-8DCBEBB6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76D4F-3710-41A3-AE36-2373EDE3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150-7DB8-4102-AFF4-C540D435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2E221-38A7-4053-90C2-125656A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BBA48-05DF-4F99-B5EE-EEBA0FE7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A0C30-F888-4CAC-B2BD-03E1A82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D1928-6332-4B5A-9B06-D5D979FC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7DC7B-285D-4A31-933C-027AA3FD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42572-946D-4F35-9DA0-8937A513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8D0BE-AC7A-49E2-AD86-EEAB488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7FC3E-0DD4-4BD7-8588-AC6A3481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BC6C1-9FE3-4C8D-BF8A-057C5F9B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E8F20-8F7C-4906-A05F-BBF7881F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A77-E87A-42A0-B6EA-67B4C3DF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B9D76-D90C-462C-9920-E385B579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2058-0887-4614-BC87-87A00F35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972BE-175E-48B5-AF45-8B2FCB9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130A-C8BB-48EC-8407-8EDA5A83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44DFD-C2E3-4F19-8709-B80F01B6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7316B-BA5A-45F2-BAC2-5B090626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94B6-81A7-4B09-BE30-1729EA1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C3398-09AB-4474-8952-9AB19A7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5FFD-3B9B-4382-A8C0-71D5247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8FFA-1CBE-4FA5-93B0-F2BC954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05C-3ED0-452E-A806-0FCB7D4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20600-F57E-4388-8381-7A18FEDB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FDA0-2DA5-473C-83AC-2DBD9F19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469E3-32DB-45C8-9866-AEFC8A7C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5E73F-6200-46DD-AADA-FF1EE6D8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5B4C9-43E1-40D0-8AFC-318E7E8A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1E06B-DA4B-43FF-8B88-98D972C7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B67DB-EEA5-4DB4-92D7-FB162FC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207DA-2881-46FE-AEBB-B88CBA59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ED152-615C-48E4-ADE3-9DC02304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3BBFB-B3FF-441A-9625-60036DE4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008-6FBD-485A-AFE2-421DEE5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4716D-D777-4D32-89CB-8DBFD10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84247-A6AC-412E-A79B-0C0856B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92AC0-1DD2-46B8-A064-25A48ED9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B18A7-1616-4764-9BC3-EBCD6C1B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33B26-6E3C-4CC3-B02C-3A1918AE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F160B-3144-47B5-843C-F880360E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1C793-81AA-4627-814F-FEEEE613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B30B-D125-4E1F-BAD6-E2DD4B81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BB87C-CA85-45CC-8DF4-F2DB79E9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F621A-C1EB-4EFD-91B1-54853422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0CC-01C1-4FB5-BF32-2E67BCE2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A04BA-E86B-461E-A08B-A2F6D1E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AA954-CDAE-4261-8984-1CC17D71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FCC63-7759-4ED0-852B-355C4845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355DB-F63D-4A4B-A1A9-1F51D35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397F6-F878-430F-AE33-0998DF53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5D943-4AE8-44CF-B966-D53469E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5878-F8E4-404F-A911-EFE7D671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8B25-5030-4C48-9634-59F56B8288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00C4-B21E-4E4F-AEEF-EA1193897581}" type="slidenum">
              <a:rPr b="1" lang="en-US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3FCA-0FFD-4F80-8C29-AE3477E8DDD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1FB-DDFE-4B43-A68D-94C279E998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9DCB-DEC9-4010-977B-C46D18C342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F544-D4ED-40CC-BD08-8E90E2DD0245}" type="slidenum">
              <a:rPr b="1" lang="en-US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19F-FD1E-4806-8722-1580CDCC8EE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C871-903B-42A6-81A8-1D001F0B046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3" descr=""/>
          <p:cNvPicPr/>
          <p:nvPr/>
        </p:nvPicPr>
        <p:blipFill>
          <a:blip r:embed="rId1"/>
          <a:stretch/>
        </p:blipFill>
        <p:spPr>
          <a:xfrm>
            <a:off x="615960" y="950760"/>
            <a:ext cx="7845480" cy="200520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4" descr=""/>
          <p:cNvPicPr/>
          <p:nvPr/>
        </p:nvPicPr>
        <p:blipFill>
          <a:blip r:embed="rId2"/>
          <a:stretch/>
        </p:blipFill>
        <p:spPr>
          <a:xfrm>
            <a:off x="1011240" y="3535200"/>
            <a:ext cx="7047000" cy="206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76a55"/>
                </a:solidFill>
                <a:latin typeface="comic"/>
              </a:rPr>
              <a:t>Histoire</a:t>
            </a:r>
            <a:endParaRPr b="0" lang="en-US" sz="88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15235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Depuis des millénaires, l'Homme a créé et utilisé des outils l'aidant à calculer. Pour réaliser des calculs complexes, il a également mis au point des algorithm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Maintenant que l'électronique a fait des progrès suffisants et que les premiers calculateurs ont fait leurs preuves, les ordinateurs vont pouvoir apparaître, nés du besoin de réaliser des opérations de plus en plus complex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pic>
        <p:nvPicPr>
          <p:cNvPr id="355" name="Picture 2" descr="http://histoire.info.online.fr/images/eniac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solidFill>
            <a:srgbClr val="000000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b"/>
                </a:solidFill>
                <a:latin typeface="Broadway"/>
              </a:rPr>
              <a:t>	</a:t>
            </a:r>
            <a:r>
              <a:rPr b="1" lang="fr-FR" sz="2800" spc="-1" strike="noStrike">
                <a:solidFill>
                  <a:srgbClr val="e3ede4"/>
                </a:solidFill>
                <a:latin typeface="Century Schoolbook"/>
              </a:rPr>
              <a:t>Non, ce n'est pas un homme qui choisit une bouteille de vin mais un technicien qui change l'un des plusiers(19000)tubes de l'ENIAC(Le premier ordinateur) 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histoire.info.online.fr/images/eniac5.jpe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4" descr=""/>
          <p:cNvPicPr/>
          <p:nvPr/>
        </p:nvPicPr>
        <p:blipFill>
          <a:blip r:embed="rId2"/>
          <a:stretch/>
        </p:blipFill>
        <p:spPr>
          <a:xfrm>
            <a:off x="1700280" y="-96840"/>
            <a:ext cx="5748120" cy="1736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histoire.info.online.fr/images/eniac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4" descr=""/>
          <p:cNvPicPr/>
          <p:nvPr/>
        </p:nvPicPr>
        <p:blipFill>
          <a:blip r:embed="rId2"/>
          <a:stretch/>
        </p:blipFill>
        <p:spPr>
          <a:xfrm>
            <a:off x="-158760" y="-225360"/>
            <a:ext cx="6718320" cy="2066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76a55"/>
                </a:solidFill>
                <a:latin typeface="comic"/>
              </a:rPr>
              <a:t>Métiers de l'informatique</a:t>
            </a:r>
            <a:br>
              <a:rPr sz="4800"/>
            </a:br>
            <a:endParaRPr b="0" lang="en-US" sz="48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3600" spc="-1" strike="noStrike">
                <a:solidFill>
                  <a:srgbClr val="0f1710"/>
                </a:solidFill>
                <a:latin typeface="Century Schoolbook"/>
              </a:rPr>
              <a:t>L'informatique fait aujourd'hui partie intégrante de la majorité des entreprises, à un tel point que le métier d'informaticien s'est diversifié en une multitudes de fonctions spécialisées</a:t>
            </a:r>
            <a:r>
              <a:rPr b="0" lang="fr-FR" sz="3200" spc="-1" strike="noStrike">
                <a:solidFill>
                  <a:srgbClr val="0f171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Aujourd’hui, l'informatique est présente dans la quasi-totalité des secteurs (banque, assurances, industrie, services, etc.) mais se présente généralement selon trois domaines d'application distincts 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L'informatique industrielle, scientifique et technologique ;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L'informatique de gestion ;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Les télécommunications et réseaux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heel spokes="3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cdn1.aradon.ro/2011/06/informati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12-02T10:31:47Z</dcterms:modified>
  <cp:revision>57</cp:revision>
  <dc:subject/>
  <dc:title>Slide 1</dc:title>
</cp:coreProperties>
</file>